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571C-4563-49AE-8CDE-6A45C8BEC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A189-2AB5-4793-836B-62DC4678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9ED4-38B8-440D-ADDF-0AB7C4B6A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F549-C1A2-4B98-A92C-85B80F13F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057C-FF56-4378-B1B5-EEC2F6AD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0AAB-C5B1-4329-9B7D-A092C608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E610-B906-4E9E-8F5F-74BC9DF97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3996-7849-478E-A9C6-7401E9C8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E5E8-D933-4D96-BF83-D47FE0ED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6C33-D694-42E1-B949-C42B7681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2621-C254-49C8-AD9D-D1504C818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ACFB-BCB5-478D-B28B-2325DD3C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ED38E6-DD3F-4B83-B3ED-6D32F1988FBC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6AF70D-749F-469F-98BC-CD60882FE3E2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EL PANTEÓN ROMA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rmán González Muño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EL PANTEÓN ROMA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tro del Panteón romano encontramos cuatro agrupaciones que tenían la función de representar al Estad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CuadroTexto 3"/>
          <p:cNvSpPr/>
          <p:nvPr/>
        </p:nvSpPr>
        <p:spPr>
          <a:xfrm>
            <a:off x="685800" y="32004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La tríad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Júpiter-Marte-Quiri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CuadroTexto 4"/>
          <p:cNvSpPr/>
          <p:nvPr/>
        </p:nvSpPr>
        <p:spPr>
          <a:xfrm>
            <a:off x="685800" y="365760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La tríada capitolina constituida p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Júpiter, Juno y Minerv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CuadroTexto 5"/>
          <p:cNvSpPr/>
          <p:nvPr/>
        </p:nvSpPr>
        <p:spPr>
          <a:xfrm>
            <a:off x="685800" y="46609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Los doce dioses principale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CuadroTexto 6"/>
          <p:cNvSpPr/>
          <p:nvPr/>
        </p:nvSpPr>
        <p:spPr>
          <a:xfrm>
            <a:off x="685800" y="510048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La tríad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eres-Libero-Liber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que representaba a los plebeyo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52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0000ff"/>
                </a:solidFill>
                <a:latin typeface="Calibri"/>
              </a:rPr>
              <a:t>JÚPITER:</a:t>
            </a: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 Ostentaba el mismo papel que Zeus en la mitología griega como principal deidad del panteón. Fue llamado Iupiter Optimus Maximus como dios patrón del estado romano, encargado de las leyes y del orden social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Marcador de contenido 2"/>
          <p:cNvSpPr/>
          <p:nvPr/>
        </p:nvSpPr>
        <p:spPr>
          <a:xfrm>
            <a:off x="457200" y="1828800"/>
            <a:ext cx="82296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0000ff"/>
                </a:solidFill>
                <a:latin typeface="Calibri"/>
              </a:rPr>
              <a:t>MARTE:</a:t>
            </a: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 Dios de la guerra hijo Júpiter y de Juno. Se le representaba como a un guerrero con armadura y yelmo. El lobo y el pájaro carpintero eran sus símbolos. Tuvo dos hijos con Venus: Fuga et Timor (Deimos y Fobos para los griegos). Proviene del dios griego Ares. Marte dio su nombre al cuarto planeta del sistema solar, al segundo día de la semana y al tercer mes del año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Marcador de contenido 2"/>
          <p:cNvSpPr/>
          <p:nvPr/>
        </p:nvSpPr>
        <p:spPr>
          <a:xfrm>
            <a:off x="457200" y="4648320"/>
            <a:ext cx="82296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0000ff"/>
                </a:solidFill>
                <a:latin typeface="Calibri"/>
              </a:rPr>
              <a:t>QUIRINO:</a:t>
            </a: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 Es el sobrenombre con el que se veneró a Rómulo en la Roma antigua. Se le representa con atributos militares y religiosos y una corona de mirto, combinando los vestidos de los Pontifex Maximus romanos y los de general victorioso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Imagen 6" descr="Jupiter_Tonans.jpg"/>
          <p:cNvPicPr/>
          <p:nvPr/>
        </p:nvPicPr>
        <p:blipFill>
          <a:blip r:embed="rId2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Imagen 7" descr="Velázquez_-_Marte.jpg"/>
          <p:cNvPicPr/>
          <p:nvPr/>
        </p:nvPicPr>
        <p:blipFill>
          <a:blip r:embed="rId3"/>
          <a:stretch/>
        </p:blipFill>
        <p:spPr>
          <a:xfrm>
            <a:off x="2755800" y="0"/>
            <a:ext cx="36324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Imagen 8" descr="Romulus,_vainqueur_d'Acron.jpg"/>
          <p:cNvPicPr/>
          <p:nvPr/>
        </p:nvPicPr>
        <p:blipFill>
          <a:blip r:embed="rId4"/>
          <a:stretch/>
        </p:blipFill>
        <p:spPr>
          <a:xfrm>
            <a:off x="127080" y="1143000"/>
            <a:ext cx="8889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TRÍADA CAPITOLI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2096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0000ff"/>
                </a:solidFill>
                <a:latin typeface="Calibri"/>
              </a:rPr>
              <a:t>JUNO:</a:t>
            </a: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 Diosa casi equivalente a la Hera griega, diosa del matrimonio y reina de los dioses. Hija de Saturno y Ops y hermana y esposa de Júpiter, con el que tuvo dos hijos, Marte y Vulcano y una hija, Ilití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Marcador de contenido 2"/>
          <p:cNvSpPr/>
          <p:nvPr/>
        </p:nvSpPr>
        <p:spPr>
          <a:xfrm>
            <a:off x="457200" y="403848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Calibri"/>
              </a:rPr>
              <a:t>MINERVA: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s la diosa de la sabiduría, las artes, las técnicas de la guerra, además de la protectora de Roma y la patrona de los artesanos. Se corresponde con Atenea en la mitología grieg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Marcador de contenido 2"/>
          <p:cNvSpPr/>
          <p:nvPr/>
        </p:nvSpPr>
        <p:spPr>
          <a:xfrm>
            <a:off x="457200" y="1600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Calibri"/>
              </a:rPr>
              <a:t>JÚPIT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Imagen 9" descr="James_Barry_001.jpg"/>
          <p:cNvPicPr/>
          <p:nvPr/>
        </p:nvPicPr>
        <p:blipFill>
          <a:blip r:embed="rId2"/>
          <a:stretch/>
        </p:blipFill>
        <p:spPr>
          <a:xfrm>
            <a:off x="271440" y="0"/>
            <a:ext cx="860112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Imagen 10" descr="Les_fileuses.jpg"/>
          <p:cNvPicPr/>
          <p:nvPr/>
        </p:nvPicPr>
        <p:blipFill>
          <a:blip r:embed="rId3"/>
          <a:stretch/>
        </p:blipFill>
        <p:spPr>
          <a:xfrm>
            <a:off x="1571760" y="1181160"/>
            <a:ext cx="6000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9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TRÍADA CERES-LIBERO-LIB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209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Calibri"/>
              </a:rPr>
              <a:t>LIBERO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Identificado con Dioniso. Dios del vino, inspirador de la locura ritual y el éxtasis. Fue también conocido como Baco, patrón de la agricultura y el teatro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Marcador de contenido 2"/>
          <p:cNvSpPr/>
          <p:nvPr/>
        </p:nvSpPr>
        <p:spPr>
          <a:xfrm>
            <a:off x="457200" y="3581280"/>
            <a:ext cx="8229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0000ff"/>
                </a:solidFill>
                <a:latin typeface="Calibri"/>
              </a:rPr>
              <a:t>LIBERA: </a:t>
            </a: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Identificada con Ariadna divinizada. Hija de Minos y Pasífae y protagonista junto con Teseo de la leyenda del Minotauro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Marcador de contenido 2"/>
          <p:cNvSpPr/>
          <p:nvPr/>
        </p:nvSpPr>
        <p:spPr>
          <a:xfrm>
            <a:off x="457200" y="1600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Calibri"/>
              </a:rPr>
              <a:t>CER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Imagen 5" descr="Diosa_Ceres_siglo_I_d.C_.jpg"/>
          <p:cNvPicPr/>
          <p:nvPr/>
        </p:nvPicPr>
        <p:blipFill>
          <a:blip r:embed="rId2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Imagen 6" descr="Dioniso_del_tipo_Madrid-Varese_(M._Prado)_01.jpg"/>
          <p:cNvPicPr/>
          <p:nvPr/>
        </p:nvPicPr>
        <p:blipFill>
          <a:blip r:embed="rId3"/>
          <a:stretch/>
        </p:blipFill>
        <p:spPr>
          <a:xfrm>
            <a:off x="3532320" y="906480"/>
            <a:ext cx="2079360" cy="5045040"/>
          </a:xfrm>
          <a:prstGeom prst="rect">
            <a:avLst/>
          </a:prstGeom>
          <a:ln w="0">
            <a:noFill/>
          </a:ln>
        </p:spPr>
      </p:pic>
      <p:pic>
        <p:nvPicPr>
          <p:cNvPr id="67" name="Imagen 9" descr="Kylix_Theseus_Aison_MNA_Inv11365_n1.jpg"/>
          <p:cNvPicPr/>
          <p:nvPr/>
        </p:nvPicPr>
        <p:blipFill>
          <a:blip r:embed="rId4"/>
          <a:stretch/>
        </p:blipFill>
        <p:spPr>
          <a:xfrm>
            <a:off x="1486080" y="343080"/>
            <a:ext cx="6172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LOS DOCE DIOSES DEL PANTE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Marcador de contenido 2"/>
          <p:cNvSpPr/>
          <p:nvPr/>
        </p:nvSpPr>
        <p:spPr>
          <a:xfrm>
            <a:off x="457200" y="141768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Calibri"/>
              </a:rPr>
              <a:t>VESTA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Es la diosa del hogar. Se corresponde con Hestia en la mitología griega. Era asistida por las Vestal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Marcador de contenido 2"/>
          <p:cNvSpPr/>
          <p:nvPr/>
        </p:nvSpPr>
        <p:spPr>
          <a:xfrm>
            <a:off x="457200" y="23623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Calibri"/>
              </a:rPr>
              <a:t>JUN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Marcador de contenido 2"/>
          <p:cNvSpPr/>
          <p:nvPr/>
        </p:nvSpPr>
        <p:spPr>
          <a:xfrm>
            <a:off x="457200" y="2935440"/>
            <a:ext cx="82296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Calibri"/>
              </a:rPr>
              <a:t>MINERVA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Diosa de la inteligencia, de la sabiduría y de las art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Marcador de contenido 2"/>
          <p:cNvSpPr/>
          <p:nvPr/>
        </p:nvSpPr>
        <p:spPr>
          <a:xfrm>
            <a:off x="457200" y="381780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0000ff"/>
                </a:solidFill>
                <a:latin typeface="Calibri"/>
              </a:rPr>
              <a:t>CERES: </a:t>
            </a: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Hija de Saturno y Ops, madre de Proserpina y hermana de Juno, Vesta, Neptuno y Plutón. Considerada diosa de la agricultur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Marcador de contenido 2"/>
          <p:cNvSpPr/>
          <p:nvPr/>
        </p:nvSpPr>
        <p:spPr>
          <a:xfrm>
            <a:off x="457200" y="5089680"/>
            <a:ext cx="8229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Calibri"/>
              </a:rPr>
              <a:t>APOLO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Dios de los oráculos, de la juventud, de la belleza, de la poesía, de la música y de las artes. Hijo de Zeus y Latona, y hermano gemelo de Dian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Imagen 11" descr="lg_07 Temple of Vesta.jpg"/>
          <p:cNvPicPr/>
          <p:nvPr/>
        </p:nvPicPr>
        <p:blipFill>
          <a:blip r:embed="rId2"/>
          <a:stretch/>
        </p:blipFill>
        <p:spPr>
          <a:xfrm>
            <a:off x="2286000" y="355680"/>
            <a:ext cx="4876920" cy="6502320"/>
          </a:xfrm>
          <a:prstGeom prst="rect">
            <a:avLst/>
          </a:prstGeom>
          <a:ln w="0">
            <a:noFill/>
          </a:ln>
        </p:spPr>
      </p:pic>
      <p:pic>
        <p:nvPicPr>
          <p:cNvPr id="75" name="Imagen 12" descr="Lycian_Apollo_Louvre_left.jpg"/>
          <p:cNvPicPr/>
          <p:nvPr/>
        </p:nvPicPr>
        <p:blipFill>
          <a:blip r:embed="rId3"/>
          <a:stretch/>
        </p:blipFill>
        <p:spPr>
          <a:xfrm>
            <a:off x="3200400" y="0"/>
            <a:ext cx="292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LOS DOCE DIOSES DEL PANTE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Marcador de contenido 2"/>
          <p:cNvSpPr/>
          <p:nvPr/>
        </p:nvSpPr>
        <p:spPr>
          <a:xfrm>
            <a:off x="457200" y="1160640"/>
            <a:ext cx="82296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Calibri"/>
              </a:rPr>
              <a:t>DIANA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Hermana gemela de Apolo, hija de Júpiter y Latona. Diosa virgen de las doncellas, de los bosques y de la caza. Sus atributos son el arco y las flechas. Su equivalente fue Artemisa en la mitología griega. Se le dedicó el primer día de la seman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Marcador de contenido 2"/>
          <p:cNvSpPr/>
          <p:nvPr/>
        </p:nvSpPr>
        <p:spPr>
          <a:xfrm>
            <a:off x="457200" y="3143160"/>
            <a:ext cx="8229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Calibri"/>
              </a:rPr>
              <a:t>VENUS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Diosa del amor, de la belleza y la fertilidad. Su equivalente en la mitología griega era Afrodita. Esposa de Vulcano y amante de Mart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Marcador de contenido 2"/>
          <p:cNvSpPr/>
          <p:nvPr/>
        </p:nvSpPr>
        <p:spPr>
          <a:xfrm>
            <a:off x="457200" y="4422600"/>
            <a:ext cx="8229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Calibri"/>
              </a:rPr>
              <a:t>MAR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Marcador de contenido 2"/>
          <p:cNvSpPr/>
          <p:nvPr/>
        </p:nvSpPr>
        <p:spPr>
          <a:xfrm>
            <a:off x="457200" y="4911840"/>
            <a:ext cx="82296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Calibri"/>
              </a:rPr>
              <a:t>JÚPIT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Marcador de contenido 2"/>
          <p:cNvSpPr/>
          <p:nvPr/>
        </p:nvSpPr>
        <p:spPr>
          <a:xfrm>
            <a:off x="457200" y="53341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24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Calibri"/>
              </a:rPr>
              <a:t>VULCANO: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Dios de los infiernos, del fuego, del metal y de la fragua. Hijo de Júpiter y Juno, y marido de Venus. Se corresponde con Hefesto en la mitología griega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Imagen 8" descr="Diane_de_Versailles_Leochares.jpg"/>
          <p:cNvPicPr/>
          <p:nvPr/>
        </p:nvPicPr>
        <p:blipFill>
          <a:blip r:embed="rId2"/>
          <a:stretch/>
        </p:blipFill>
        <p:spPr>
          <a:xfrm>
            <a:off x="2341440" y="0"/>
            <a:ext cx="446112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Imagen 9" descr="VelazquezVenues.jpg"/>
          <p:cNvPicPr/>
          <p:nvPr/>
        </p:nvPicPr>
        <p:blipFill>
          <a:blip r:embed="rId3"/>
          <a:stretch/>
        </p:blipFill>
        <p:spPr>
          <a:xfrm>
            <a:off x="762120" y="579600"/>
            <a:ext cx="7924680" cy="5430600"/>
          </a:xfrm>
          <a:prstGeom prst="rect">
            <a:avLst/>
          </a:prstGeom>
          <a:ln w="0">
            <a:noFill/>
          </a:ln>
        </p:spPr>
      </p:pic>
      <p:pic>
        <p:nvPicPr>
          <p:cNvPr id="84" name="Imagen 10" descr="Diego_Velasquez,_The_Forge_of_Vulcan.jpg"/>
          <p:cNvPicPr/>
          <p:nvPr/>
        </p:nvPicPr>
        <p:blipFill>
          <a:blip r:embed="rId4"/>
          <a:stretch/>
        </p:blipFill>
        <p:spPr>
          <a:xfrm>
            <a:off x="457200" y="533520"/>
            <a:ext cx="7848720" cy="60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9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18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MERCUR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uadroTexto 2"/>
          <p:cNvSpPr/>
          <p:nvPr/>
        </p:nvSpPr>
        <p:spPr>
          <a:xfrm>
            <a:off x="838080" y="666720"/>
            <a:ext cx="716292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</a:t>
            </a:r>
            <a:r>
              <a:rPr b="0" lang="es-ES_tradnl" sz="2500" spc="-1" strike="noStrike">
                <a:solidFill>
                  <a:srgbClr val="000000"/>
                </a:solidFill>
                <a:latin typeface="Calibri"/>
                <a:ea typeface="Wingdings"/>
              </a:rPr>
              <a:t>Era el dios del comercio, hijo de Júpiter y de Maia Maiestas. Su nombre está relacionada con la palabra latina </a:t>
            </a:r>
            <a:r>
              <a:rPr b="0" i="1" lang="es-ES_tradnl" sz="2500" spc="-1" strike="noStrike">
                <a:solidFill>
                  <a:srgbClr val="000000"/>
                </a:solidFill>
                <a:latin typeface="Calibri"/>
                <a:ea typeface="Wingdings"/>
              </a:rPr>
              <a:t>‘merx’</a:t>
            </a:r>
            <a:r>
              <a:rPr b="0" lang="es-ES_tradnl" sz="2500" spc="-1" strike="noStrike">
                <a:solidFill>
                  <a:srgbClr val="000000"/>
                </a:solidFill>
                <a:latin typeface="Calibri"/>
                <a:ea typeface="Wingdings"/>
              </a:rPr>
              <a:t> (mercancía). Está relacionado con el dios Hermes de la mitología griega. Desde el principio, Mercurio llevó los atributos del dios hermes: vestía las sandalias y el pétaso alados, el caduceo (una vara de heraldo con dos serpientes entrelazadas que Apolo regaló a Hermes. A menudo iba acompañado de un gallo, el heraldo del nuevo día, una cabra o un cordero simbolizando la fertilidad y una tortuga en alusión a la legendaria invención de Mercurio de la lira a partir de un caparazón. Mensajero de los dioses, dios de la abundancia y psicopompo de los romanos. Ovidio escribió que Mercurio llevaba los sueños de Morfeo desde el valle de Somnus a los humanos que dormían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Imagen 3" descr="ArMercurio3.jpg"/>
          <p:cNvPicPr/>
          <p:nvPr/>
        </p:nvPicPr>
        <p:blipFill>
          <a:blip r:embed="rId2"/>
          <a:stretch/>
        </p:blipFill>
        <p:spPr>
          <a:xfrm>
            <a:off x="3263760" y="888840"/>
            <a:ext cx="261648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8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NEPTU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CuadroTexto 2"/>
          <p:cNvSpPr/>
          <p:nvPr/>
        </p:nvSpPr>
        <p:spPr>
          <a:xfrm>
            <a:off x="838080" y="666720"/>
            <a:ext cx="716292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</a:t>
            </a:r>
            <a:r>
              <a:rPr b="0" lang="es-ES_tradnl" sz="2500" spc="-1" strike="noStrike">
                <a:solidFill>
                  <a:srgbClr val="000000"/>
                </a:solidFill>
                <a:latin typeface="Calibri"/>
                <a:ea typeface="Wingdings"/>
              </a:rPr>
              <a:t>Hermano de Júpiter. Dios de las aguas y mares. Cabalga sobre las olas en caballos blancos y en la mitología griega se le conoce con el nombre de Poseidón. Su esposa principal fue Anfítrite con quien tuvo a los tritones, monstruos marinos con rostros humanos barbados y colas como los delfines. Los cabellos son algas, tienen agallas tras las orejas y manos con forma de concha. Su cortejo estaba formado por sirenas, nereidas, oceánides, tritones, ninfas, ondinas y náyad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Imagen 3" descr="neptuno-2.jpg"/>
          <p:cNvPicPr/>
          <p:nvPr/>
        </p:nvPicPr>
        <p:blipFill>
          <a:blip r:embed="rId2"/>
          <a:stretch/>
        </p:blipFill>
        <p:spPr>
          <a:xfrm>
            <a:off x="1987560" y="0"/>
            <a:ext cx="516888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Imagen 4" descr="neptuno-y-ulises.jpg"/>
          <p:cNvPicPr/>
          <p:nvPr/>
        </p:nvPicPr>
        <p:blipFill>
          <a:blip r:embed="rId3"/>
          <a:stretch/>
        </p:blipFill>
        <p:spPr>
          <a:xfrm>
            <a:off x="1714680" y="914400"/>
            <a:ext cx="5715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9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10:26:56Z</dcterms:created>
  <dc:creator>Germán González Muñoz</dc:creator>
  <dc:description/>
  <dc:language>en-US</dc:language>
  <cp:lastModifiedBy>Germán González Muñoz</cp:lastModifiedBy>
  <dcterms:modified xsi:type="dcterms:W3CDTF">2009-03-01T16:42:32Z</dcterms:modified>
  <cp:revision>23</cp:revision>
  <dc:subject/>
  <dc:title>EL PANTEÓN ROMANO</dc:title>
</cp:coreProperties>
</file>